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2C7-707A-4372-8C65-41C54378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clearly expressed relations of parthood, adjacency etc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C51-92A1-4B71-9369-FE282A13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301-FE15-4C80-A5DA-D6DAB326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239-C68E-442F-9112-A3D11378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274-83DB-4511-8940-BE8A97F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75A-E417-4F75-8FA4-A6FBA4D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749-386A-49AA-B9C1-473DB647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657-F7FC-4CD3-B818-0D21C0B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081-A1DE-403D-B1B3-EA2CFFA9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9EE-FAA3-4099-B6E7-FFBAF9C6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29C-C3A9-4868-95A8-216ABEF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D75-7DD8-45CF-B28A-3A88119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0BF-9948-488D-A074-77A12A9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D9F-8950-4CB7-ABF4-CAF4C7D3B18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reate new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sualizations fo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ime course dat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kr</cp:lastModifiedBy>
  <dcterms:modified xsi:type="dcterms:W3CDTF">2005-11-04T05:15:02Z</dcterms:modified>
  <cp:revision>38</cp:revision>
  <dc:subject/>
  <dc:title>PowerPoint Presentation</dc:title>
</cp:coreProperties>
</file>